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73D-569D-4B01-AD4C-1A6A755D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E838-D463-483B-ACA0-ED70EC2C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FE35-9249-4C1A-99AF-E6F8F4BA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AC3E-F422-40CA-8A65-A70ACAE5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F1B-3DA8-40EF-BC72-3CC25A33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04DE-253C-4B1F-928B-84FD26FB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F4CC-F88B-48D1-827C-F842A989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115 minutes, split up by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779A-AB33-4994-8D25-576E51F7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EA7F-0BA6-47D7-BD11-A7FCCDB1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CAA-F8BD-4800-A09A-1541E01C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59D5-9638-45A8-B60D-523D3439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5393-F09A-42F9-9CFF-9EC7A653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61DB-002E-43C5-ACA4-DED67A4F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mmm do we sense a theme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E0B-E9BD-4ED5-A286-0EADFF642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F4AE-D2F8-498C-8EE9-F67F2E9C4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BE7-4B86-4D9E-B91F-923F6F8E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34EA-380C-440C-9E5C-7EAE262D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21B-FEDD-4D5E-B1EF-5A414C209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BE7D-A2C2-440C-AC4D-16F069CE3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CE82-B092-4924-A87B-83C496CC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4DE-3395-4463-B09B-7F814321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A03-314D-4AFE-A815-A7F4192C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680-D9B6-4A25-9CC0-1EE8906F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AD1-32BD-4066-AEE2-7A90D19F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4CBD-BBA6-4BBC-8D65-7F30DEE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317F-A655-48C1-8272-A41934B5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82F-3DF9-40DF-A0AB-B2D96E8D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A7D1-AA2F-420E-86B1-C050457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1CB-F077-42CB-9076-F625EA1D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B0CA-A618-44DE-8779-46509453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02EF-47BE-4E02-9217-4737A97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39F-9BE8-4A95-830C-BB36E6F5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991A-FE32-41C8-999B-DA9510C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2EF-27A1-4B5C-82D6-4757E865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19D2-1D45-4969-997B-FFEB26D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71E6-211D-4703-AF35-E1E57CB2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159F-142F-46A1-8A4C-3AA1003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404-A6DF-4B7B-A07F-4E3682F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7FB-26E3-4A5B-A663-08B08BC4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289-3826-4AB2-A1A0-18E69905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52E-4B6C-4EF3-B1EB-8C294383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079-67C3-41BC-8B2C-305C20B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BE0-C112-4BCA-87B3-EA31E61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537-4F6C-4BE6-BB36-B83DA0E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196-A303-418F-B2A3-F46FCF2AFE0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3EA6-EF12-4A0A-8E9C-DE4FD9FC6B8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Modelling in a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did you determine the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would the function change if the given point (-1, 5) changed to (-1, -5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25"/>
                            </p:stCondLst>
                            <p:childTnLst>
                              <p:par>
                                <p:cTn id="6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75"/>
                            </p:stCondLst>
                            <p:childTnLst>
                              <p:par>
                                <p:cTn id="6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900"/>
                            </p:stCondLst>
                            <p:childTnLst>
                              <p:par>
                                <p:cTn id="6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650"/>
                            </p:stCondLst>
                            <p:childTnLst>
                              <p:par>
                                <p:cTn id="7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50"/>
                            </p:stCondLst>
                            <p:childTnLst>
                              <p:par>
                                <p:cTn id="7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20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700"/>
                            </p:stCondLst>
                            <p:childTnLst>
                              <p:par>
                                <p:cTn id="8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200"/>
                            </p:stCondLst>
                            <p:childTnLst>
                              <p:par>
                                <p:cTn id="9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700"/>
                            </p:stCondLst>
                            <p:childTnLst>
                              <p:par>
                                <p:cTn id="99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0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325"/>
                            </p:stCondLst>
                            <p:childTnLst>
                              <p:par>
                                <p:cTn id="10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0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775"/>
                            </p:stCondLst>
                            <p:childTnLst>
                              <p:par>
                                <p:cTn id="10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50"/>
                            </p:stCondLst>
                            <p:childTnLst>
                              <p:par>
                                <p:cTn id="108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300"/>
                            </p:stCondLst>
                            <p:childTnLst>
                              <p:par>
                                <p:cTn id="1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700"/>
                            </p:stCondLst>
                            <p:childTnLst>
                              <p:par>
                                <p:cTn id="1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750"/>
                            </p:stCondLst>
                            <p:childTnLst>
                              <p:par>
                                <p:cTn id="126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3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8250"/>
                            </p:stCondLst>
                            <p:childTnLst>
                              <p:par>
                                <p:cTn id="13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25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 con’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a group with others working on the sam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task by selecting one of the questions and then prompt each other using the follow-up question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the parallel task to a big idea and then find all the expectations that are addressed by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4 U 2 do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struggle that you believe your students have when studying quadratics and the corresponding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like-mind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ne parallel task as well as the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lgebra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9538" t="17499" r="0" b="0"/>
          <a:stretch/>
        </p:blipFill>
        <p:spPr>
          <a:xfrm>
            <a:off x="1452600" y="1857240"/>
            <a:ext cx="6548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25"/>
                            </p:stCondLst>
                            <p:childTnLst>
                              <p:par>
                                <p:cTn id="14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75"/>
                            </p:stCondLst>
                            <p:childTnLst>
                              <p:par>
                                <p:cTn id="1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5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900"/>
                            </p:stCondLst>
                            <p:childTnLst>
                              <p:par>
                                <p:cTn id="1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650"/>
                            </p:stCondLst>
                            <p:childTnLst>
                              <p:par>
                                <p:cTn id="1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50"/>
                            </p:stCondLst>
                            <p:childTnLst>
                              <p:par>
                                <p:cTn id="16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700"/>
                            </p:stCondLst>
                            <p:childTnLst>
                              <p:par>
                                <p:cTn id="17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2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700"/>
                            </p:stCondLst>
                            <p:childTnLst>
                              <p:par>
                                <p:cTn id="186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8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325"/>
                            </p:stCondLst>
                            <p:childTnLst>
                              <p:par>
                                <p:cTn id="189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9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775"/>
                            </p:stCondLst>
                            <p:childTnLst>
                              <p:par>
                                <p:cTn id="1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9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050"/>
                            </p:stCondLst>
                            <p:childTnLst>
                              <p:par>
                                <p:cTn id="195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700"/>
                            </p:stCondLst>
                            <p:childTnLst>
                              <p:par>
                                <p:cTn id="2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50"/>
                            </p:stCondLst>
                            <p:childTnLst>
                              <p:par>
                                <p:cTn id="213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6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750"/>
                            </p:stCondLst>
                            <p:childTnLst>
                              <p:par>
                                <p:cTn id="2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9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250"/>
                            </p:stCondLst>
                            <p:childTnLst>
                              <p:par>
                                <p:cTn id="22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Revisiting l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parallel tasks for feedback, using the prob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3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25"/>
                            </p:stCondLst>
                            <p:childTnLst>
                              <p:par>
                                <p:cTn id="23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3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75"/>
                            </p:stCondLst>
                            <p:childTnLst>
                              <p:par>
                                <p:cTn id="2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3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900"/>
                            </p:stCondLst>
                            <p:childTnLst>
                              <p:par>
                                <p:cTn id="24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650"/>
                            </p:stCondLst>
                            <p:childTnLst>
                              <p:par>
                                <p:cTn id="24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25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200"/>
                            </p:stCondLst>
                            <p:childTnLst>
                              <p:par>
                                <p:cTn id="25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0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700"/>
                            </p:stCondLst>
                            <p:childTnLst>
                              <p:par>
                                <p:cTn id="2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6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200"/>
                            </p:stCondLst>
                            <p:childTnLst>
                              <p:par>
                                <p:cTn id="26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9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700"/>
                            </p:stCondLst>
                            <p:childTnLst>
                              <p:par>
                                <p:cTn id="273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7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325"/>
                            </p:stCondLst>
                            <p:childTnLst>
                              <p:par>
                                <p:cTn id="276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7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775"/>
                            </p:stCondLst>
                            <p:childTnLst>
                              <p:par>
                                <p:cTn id="279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50"/>
                            </p:stCondLst>
                            <p:childTnLst>
                              <p:par>
                                <p:cTn id="282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700"/>
                            </p:stCondLst>
                            <p:childTnLst>
                              <p:par>
                                <p:cTn id="29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750"/>
                            </p:stCondLst>
                            <p:childTnLst>
                              <p:par>
                                <p:cTn id="300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1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2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3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7750"/>
                            </p:stCondLst>
                            <p:childTnLst>
                              <p:par>
                                <p:cTn id="30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6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825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4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on threads in student struggles for 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Algebraic manipulation (factoring, completing the square, expanding, etc…)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onnecting the concrete to abstract concept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Understanding graph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onnecting representat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Making connections in genera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on threads in our own strug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How do we find time to create all this ‘stuff’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How do we find time to deliver all this ‘stuff’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How to modify favourite activities to incorporate high yield strategie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Connecting abstract and concrete idea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do we use algebra tiles effectively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he meaning/differences between the big ideas and writing lesson goal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do we get to the skills to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termine the equation of a function with the following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9560"/>
                <a:gridCol w="367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draw a grap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use alge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ich did you do first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uld you have predicted whether the ‘a’ value was positive or negative before you actually calculat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s the value of ‘a’ what you expec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need all three pieces of inform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y? Or Why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8-19T13:38:41Z</dcterms:modified>
  <cp:revision>144</cp:revision>
  <dc:subject/>
  <dc:title>Slide 1</dc:title>
</cp:coreProperties>
</file>